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91E-EF94-4A15-A02B-D951F041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BCF-6CC3-498B-BF68-20F64146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5CA-2FBF-4C53-BEA5-CB13BAF1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C02-C183-40AF-A5F2-3A4960F3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38D1-1B45-4129-9F28-07C272B4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E5F-4253-44E4-AC12-5A5C8B8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BDCF-0140-4C56-9B72-9AD91F85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288-251E-4664-88E6-07D4D1FC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12D0-3F4D-4BE2-963A-9E9BD701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A081-0C8E-47C3-BBC1-0579FCB2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BBC-8564-4F48-96CF-4FED13B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E76-A351-470D-936A-295EF9A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ED42-3BD5-4FBB-8334-8D93ADD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531C-4405-48EA-A948-9184949F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A16-F308-4BA7-ACFB-9FE42BD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5CB0-0E61-4E3A-A208-79B3F632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6AE6-9BBC-4A58-85D7-4CAC78F0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C5A-3889-4717-BCBB-57A8A72E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5BA-B1A1-45C7-BF46-AC2BDF9C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B25-C4D9-49EF-9F1F-7AED50B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3CE-0E36-46A9-8ED7-776F07F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298-8470-4B72-BD90-49CA0F31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F97-0E0D-44F3-BDFF-55BC378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785-78D9-4C74-9A0A-CCDABB7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C2A2-E21A-4ED8-843D-C939997AD791}" type="slidenum">
              <a:rPr b="0" lang="en-GB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682120" y="4952880"/>
          <a:ext cx="4604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82120" y="4952880"/>
                    <a:ext cx="460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83E8-FA36-4F3A-83F2-55DE7262DBF1}" type="slidenum">
              <a:rPr b="0" lang="en-GB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NZ" sz="5400" spc="-1" strike="noStrike">
                <a:solidFill>
                  <a:srgbClr val="ff9900"/>
                </a:solidFill>
                <a:latin typeface="Tahoma"/>
              </a:rPr>
              <a:t>Lead Teachers</a:t>
            </a:r>
            <a:br>
              <a:rPr sz="5400"/>
            </a:br>
            <a:r>
              <a:rPr b="1" lang="en-NZ" sz="5400" spc="-1" strike="noStrike">
                <a:solidFill>
                  <a:srgbClr val="ff9900"/>
                </a:solidFill>
                <a:latin typeface="Tahoma"/>
              </a:rPr>
              <a:t>Working with Colleagues</a:t>
            </a:r>
            <a:br>
              <a:rPr sz="5400"/>
            </a:br>
            <a:br>
              <a:rPr sz="54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Tahoma"/>
              </a:rPr>
              <a:t>How Teachers Respond to Professional Development</a:t>
            </a:r>
            <a:br>
              <a:rPr sz="4000"/>
            </a:br>
            <a:br>
              <a:rPr sz="4000"/>
            </a:b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From:</a:t>
            </a: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en-NZ" sz="2800" spc="-1" strike="noStrike">
                <a:solidFill>
                  <a:srgbClr val="ffff00"/>
                </a:solidFill>
                <a:latin typeface="Tahoma"/>
              </a:rPr>
              <a:t>Professional Learning and Development: A Best Evidence Synthesis of Impact on Student Outcomes </a:t>
            </a:r>
            <a:br>
              <a:rPr sz="2800"/>
            </a:b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by</a:t>
            </a:r>
            <a:r>
              <a:rPr b="0" i="1" lang="en-NZ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Helen Timperley, Irene Fung, Aaron Wilson and Heather Barrar</a:t>
            </a:r>
            <a:br>
              <a:rPr sz="28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Teachers make a difference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re is a direct relationship between teacher practice and student learning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How teachers change their practice impacts on student outcom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9900"/>
                </a:solidFill>
                <a:latin typeface="Tahoma"/>
              </a:rPr>
              <a:t>Three iterative learning mechanisms provide the framework for professional learning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Cueing prior knowledg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ecoming aware of and understanding new information/skills consistent with current values &amp; beliefs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reating dissonance with current values &amp; beliefs, which requires reconstruction and repositioning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9900"/>
                </a:solidFill>
                <a:latin typeface="Tahoma"/>
              </a:rPr>
              <a:t>But remember that learning processes are complex…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y are not  a tidy separation into the three mechanism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y are likely to take different forms for different participant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They may involve a single mechanism or a combination of the thre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9900"/>
                </a:solidFill>
                <a:latin typeface="Tahoma"/>
              </a:rPr>
              <a:t>Teachers can react in a number of different ways</a:t>
            </a:r>
            <a:endParaRPr b="0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427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reject / ignore new theory &amp; practice and continue with prior practice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would like to implement new practice but have insufficient skills 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believe they are enacting new practice but continue with prior practice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select parts of new theory &amp; practice and adapt to current practice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implement as required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actively engage with, own &amp; apply new theory &amp; practice and change practice 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substantively enhance regulation of own and </a:t>
            </a:r>
            <a:endParaRPr b="0" lang="en-US" sz="27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ffff00"/>
                </a:solidFill>
                <a:latin typeface="Tahoma"/>
              </a:rPr>
              <a:t>others’ learning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How did 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 respond during the AfL professional developmen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What helped you mos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How are your ‘cascading’ teachers responding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How can we best support the learning process for our teachers to enable them to get the most from the professional developmen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3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9900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Openness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Honesty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Respect</a:t>
            </a:r>
            <a:br>
              <a:rPr sz="4000"/>
            </a:b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Say what you think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Say why you think it</a:t>
            </a:r>
            <a:br>
              <a:rPr sz="4000"/>
            </a:br>
            <a:r>
              <a:rPr b="0" lang="en-NZ" sz="4000" spc="-1" strike="noStrike">
                <a:solidFill>
                  <a:srgbClr val="ff9900"/>
                </a:solidFill>
                <a:latin typeface="Tahoma"/>
              </a:rPr>
              <a:t>Check it out 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1:11:22Z</dcterms:created>
  <dc:creator>Administrator</dc:creator>
  <dc:description/>
  <dc:language>en-US</dc:language>
  <cp:lastModifiedBy> Administrator</cp:lastModifiedBy>
  <dcterms:modified xsi:type="dcterms:W3CDTF">2007-04-25T10:15:55Z</dcterms:modified>
  <cp:revision>5</cp:revision>
  <dc:subject/>
  <dc:title>Professional Development</dc:title>
</cp:coreProperties>
</file>